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8774-CDA8-481F-9EF8-4C7DF1221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0A00-0262-4D0B-A43C-31E4BA8A4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136C-A9B7-46EF-AB0E-E670FE824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03D9-99AC-41D8-BFBE-E4D47D771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6458-F2F0-46EE-B861-9A43B9F89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FC57-721D-43D2-8773-38CD97DE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0A80-3F6F-41D9-B87C-E1C44D0E0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3677-5ADB-4E5D-9B0C-792A754C0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9C7F-5E03-47E3-880C-9BFB49E77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E8DF-2024-4842-9DBA-894B3B6F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A4F6-4BD4-485E-893F-DF1C19F6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1A46-A3A1-4029-A310-5779BE24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A28A5-AB8F-4386-9052-2BF22837E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052640"/>
            <a:ext cx="262728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imenti migra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2000" y="220500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3357720"/>
            <a:ext cx="2592360" cy="2087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 chia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igr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ndo le perso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 un paese se 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nno all’est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vivere e cerca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vo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108000" y="7101000"/>
            <a:ext cx="75564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5805360"/>
            <a:ext cx="3780000" cy="1052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li italiani sono stati emigrant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molti paesi e, anche se meno d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a volta, lo sono anche ogg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3564000" y="4221000"/>
            <a:ext cx="3600360" cy="1224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e principal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211640" y="5943600"/>
            <a:ext cx="1368360" cy="91440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e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ro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1331640" y="5516640"/>
            <a:ext cx="144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3995640" y="5950080"/>
            <a:ext cx="50508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4932360" y="5373720"/>
            <a:ext cx="287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6011640" y="5445000"/>
            <a:ext cx="215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96000" y="5943600"/>
            <a:ext cx="1201680" cy="9144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U. S.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948360" y="5445000"/>
            <a:ext cx="360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7092360" y="5950080"/>
            <a:ext cx="1476360" cy="907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067280" y="1700280"/>
            <a:ext cx="3241440" cy="20653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 chiama IMMIGRAZIO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ando in un pae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rivano stranieri a vivere 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rcare lavo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00360" y="2060640"/>
            <a:ext cx="1224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308720" y="3213000"/>
            <a:ext cx="576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380360" y="3357720"/>
            <a:ext cx="1763640" cy="1008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arrivano immigra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 Italia soprattut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7524360" y="4365720"/>
            <a:ext cx="142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604360" y="4365720"/>
            <a:ext cx="71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093080" y="4365720"/>
            <a:ext cx="1274760" cy="11300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388360" y="4653000"/>
            <a:ext cx="914400" cy="9144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987640" y="907560"/>
            <a:ext cx="57636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549360"/>
            <a:ext cx="237636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 persone van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vivere in un alt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ese 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720" y="0"/>
            <a:ext cx="2160360" cy="1557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uggire da situazio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ffici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esemp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uerr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84720" y="549360"/>
            <a:ext cx="71928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5T07:57:54Z</dcterms:created>
  <dc:creator>studente</dc:creator>
  <dc:description/>
  <dc:language>en-US</dc:language>
  <cp:lastModifiedBy>studente</cp:lastModifiedBy>
  <dcterms:modified xsi:type="dcterms:W3CDTF">2016-12-05T09:03:41Z</dcterms:modified>
  <cp:revision>2</cp:revision>
  <dc:subject/>
  <dc:title>Diapositiva 1</dc:title>
</cp:coreProperties>
</file>